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907-4D9B-48BC-A7F8-BE72C05B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F3B-7070-4E62-817A-AFBDFC0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1B8-25E2-4A03-A94A-2B496231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350-D425-4327-B783-E154118E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680-4674-4DA7-8EB0-C2951D54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B36-4F7F-4B73-8259-BA61CF1A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819-E404-45FD-B799-038B8858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0FB-7D44-4AA8-B107-6466855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ADA-FC1F-4BFB-81E3-24FCF57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5B5-1A1B-4241-8AEA-A8BBFC7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8C1-99D0-4E2B-A34A-2C42BDA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4EF-CD37-43F2-8394-B25165A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9CFE-776A-4222-9972-1492B407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057400"/>
            <a:ext cx="77724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4320" y="464832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4686480"/>
            <a:ext cx="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02912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3000" y="4029120"/>
            <a:ext cx="8748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94640" y="4029120"/>
            <a:ext cx="12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0" cy="19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92880" y="4686480"/>
            <a:ext cx="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92880" y="46864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4600800" y="2104200"/>
            <a:ext cx="900360" cy="654120"/>
          </a:xfrm>
          <a:prstGeom prst="rect">
            <a:avLst/>
          </a:prstGeom>
          <a:ln w="0">
            <a:noFill/>
          </a:ln>
        </p:spPr>
      </p:pic>
      <p:sp>
        <p:nvSpPr>
          <p:cNvPr id="53" name="sink1"/>
          <p:cNvSpPr/>
          <p:nvPr/>
        </p:nvSpPr>
        <p:spPr>
          <a:xfrm rot="5400000">
            <a:off x="4737960" y="3414600"/>
            <a:ext cx="549360" cy="577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oilet"/>
          <p:cNvSpPr/>
          <p:nvPr/>
        </p:nvSpPr>
        <p:spPr>
          <a:xfrm>
            <a:off x="5562720" y="2057400"/>
            <a:ext cx="628560" cy="51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057400"/>
            <a:ext cx="0" cy="19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02912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or"/>
          <p:cNvSpPr/>
          <p:nvPr/>
        </p:nvSpPr>
        <p:spPr>
          <a:xfrm rot="13500000">
            <a:off x="7734240" y="4152960"/>
            <a:ext cx="533520" cy="457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1529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057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5438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the rooms with the vocabulary listed. Esszimmer, Wohnzimmer, Badezimmer, Kinderzimmer, Kü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ny SIX of the following in the correct room and label them:  das Bett, die Toilette, das Sofa, der Sessel, der Stuhl, das Radio, die Kommode, der Schrank, der Teppich, der Bank, die Uhr, das Fahrrad, die Badewa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01:17Z</dcterms:created>
  <dc:creator>udsd</dc:creator>
  <dc:description/>
  <dc:language>en-US</dc:language>
  <cp:lastModifiedBy>udsd</cp:lastModifiedBy>
  <dcterms:modified xsi:type="dcterms:W3CDTF">2009-05-21T14:08:58Z</dcterms:modified>
  <cp:revision>4</cp:revision>
  <dc:subject/>
  <dc:title>Slide 1</dc:title>
</cp:coreProperties>
</file>